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C3A-9F3D-42C4-9498-B2B1C5F2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D4E-2077-4EF8-9D12-041141CF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588-71DC-4F7C-9618-12B4B0A5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567-B165-42F4-8B69-CC04BCA9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F4E-EF12-4A74-ADC2-8000D71B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E14-9557-4D4E-82A8-2576097F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FFE-6A59-4A6E-8C4F-F104A682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6D8-91FC-4E29-B16C-F07C6A21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8C97-0CC5-4338-AB7F-AD82237D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1DB-FFAD-4BF8-B9C2-270639B8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BCF-505C-46DF-8C6A-D6212BE0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52F-F405-46B0-B068-A638F07B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9C29-B878-48AE-8AB2-46B38D668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6:20:47Z</dcterms:created>
  <dc:creator>Grupo Editorial</dc:creator>
  <dc:description/>
  <dc:language>en-US</dc:language>
  <cp:lastModifiedBy>Grupo Editorial</cp:lastModifiedBy>
  <dcterms:modified xsi:type="dcterms:W3CDTF">2001-11-20T16:22:26Z</dcterms:modified>
  <cp:revision>1</cp:revision>
  <dc:subject/>
  <dc:title>Sin título de diapositiva</dc:title>
</cp:coreProperties>
</file>